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0C4-CFBC-4BDC-B8F1-23239715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5EA-7465-49F5-AF7B-AE4CB7F2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4AF-CF7E-4E43-8830-4A107EE0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B70-F63A-4F7A-8B2F-888EF6B5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C91A-E46F-4D73-A847-03F5AE32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ADA-5C7B-45F8-9604-6AFC23A7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AE3-C888-4D68-B7D3-DFFCDB9B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946-DDB8-4ABC-BDCC-3F8712BB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9F4-9711-4845-8991-6D2D864C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EFC-76DD-484E-9178-C9EE5674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C1F-071C-4744-B3C9-F25C3804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574-D4AE-4CF5-8C4F-8DA127C0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1538-D8DB-4C5E-860D-2FC297E526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0" y="0"/>
            <a:ext cx="4140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????Boutros Rokaa"/>
              </a:rPr>
              <a:t>لكَ التسبيحُ والشكرا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جنادُ العلاء تشدو بالثناء قوّات السماء تذيع الشان ها هو عندنا باختفاء فلنسجد له بإيم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هذا العيد تفيضُ النِعَم بسرٍّ به كانت الأسرار بهذا العيد تفيضُ النِعَم على جنسنا يا بني آد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ن كان فقيراً أو كان حقيراً أو كان أسيراً ليأتِ الآن يجد رباً كريماً قدي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سرّ الوداد والرضو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هبوه القلوب يا مؤمنين فإن القلوبُ به تستريح هبوه القلوب يا مؤمنين فهو اشترانا بدمه الثمي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نشكر سخاه ولنطلب رضاه نترك ما شناه لئلاّ يُهان وبعد الممات ننال سماه مقرّ النِعَم والرضو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2:23:25Z</dcterms:created>
  <dc:creator>Charbel Azar</dc:creator>
  <dc:description/>
  <dc:language>en-US</dc:language>
  <cp:lastModifiedBy>-</cp:lastModifiedBy>
  <dcterms:modified xsi:type="dcterms:W3CDTF">2003-01-26T16:49:21Z</dcterms:modified>
  <cp:revision>6</cp:revision>
  <dc:subject/>
  <dc:title>لكَ التسبيحُ والشكران لك المجدُ يا سرّ القربان، لكَ التسبيحُ والشكران بكلِّ زمانٍ وكلّ مكان. </dc:title>
</cp:coreProperties>
</file>